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530D-F61F-4E19-8D57-6019B8AC0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5D42-6FD5-4500-8CA2-C3BA99271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D41B-52FB-47F1-871F-4B6FAA497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93A4-5525-4D28-AB40-B15DDA615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C530-AF18-4C93-8DCC-F59565C41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0C4-89E9-408E-A9D1-04B589830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5823-8380-44B8-9EE5-A126EB5A2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1279-0ED9-4AB8-BE4A-095A645C2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6B5C-E2E1-4216-A82E-D7FA8D2B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AB89-4175-4C2D-826F-C7D6E4D6C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34D3-3427-44B8-AF3D-B8C1DC3C2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9FDB-1A88-425F-B1B1-67260B9E6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827-DBFD-4ED7-8478-DC960C49666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8000" y="3003480"/>
            <a:ext cx="62992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REGULAMENTAÇÃO DA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NA 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utubr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HelveticaNeue Condensed"/>
              </a:rPr>
              <a:t>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a 1" descr=""/>
          <p:cNvPicPr/>
          <p:nvPr/>
        </p:nvPicPr>
        <p:blipFill>
          <a:blip r:embed="rId1"/>
          <a:stretch/>
        </p:blipFill>
        <p:spPr>
          <a:xfrm>
            <a:off x="1523880" y="1311120"/>
            <a:ext cx="6096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99"/>
                </a:solidFill>
                <a:latin typeface="HelveticaNeue Condensed"/>
              </a:rPr>
              <a:t>PADRONIZAÇÃO DA NOTA TÉ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2" descr=""/>
          <p:cNvPicPr/>
          <p:nvPr/>
        </p:nvPicPr>
        <p:blipFill>
          <a:blip r:embed="rId1"/>
          <a:stretch/>
        </p:blipFill>
        <p:spPr>
          <a:xfrm>
            <a:off x="468360" y="1168560"/>
            <a:ext cx="3181320" cy="5370480"/>
          </a:xfrm>
          <a:prstGeom prst="rect">
            <a:avLst/>
          </a:prstGeom>
          <a:ln w="0">
            <a:noFill/>
          </a:ln>
        </p:spPr>
      </p:pic>
      <p:pic>
        <p:nvPicPr>
          <p:cNvPr id="94" name="Imagem 4" descr=""/>
          <p:cNvPicPr/>
          <p:nvPr/>
        </p:nvPicPr>
        <p:blipFill>
          <a:blip r:embed="rId2"/>
          <a:stretch/>
        </p:blipFill>
        <p:spPr>
          <a:xfrm>
            <a:off x="4427640" y="1044720"/>
            <a:ext cx="4343400" cy="5335560"/>
          </a:xfrm>
          <a:prstGeom prst="rect">
            <a:avLst/>
          </a:prstGeom>
          <a:ln w="22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B6DE-BE80-4685-9A13-A09364832540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00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Simone Schenkman</cp:lastModifiedBy>
  <cp:lastPrinted>2016-08-25T18:53:16Z</cp:lastPrinted>
  <dcterms:modified xsi:type="dcterms:W3CDTF">2016-09-26T17:39:46Z</dcterms:modified>
  <cp:revision>200</cp:revision>
  <dc:subject/>
  <dc:title>Slide 1</dc:title>
</cp:coreProperties>
</file>